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4D32-1473-4943-94A9-1B0DD5DAC908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DEC2-82D9-442D-AFFE-1426BE01AE69}" type="slidenum">
              <a:rPr b="0" lang="fi-FI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1AD2-D522-4770-A803-20BF7F180789}" type="slidenum">
              <a:rPr b="0" lang="fi-FI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7F6E-F7FC-46E7-8B95-DB184C37E917}" type="slidenum">
              <a:rPr b="0" lang="fi-FI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45E9-B3D6-4A97-94A1-7C5FCE3A58B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7C71-D71A-49CE-99A1-A5CD05D0A8E9}" type="slidenum">
              <a:rPr b="0" lang="fi-FI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8398-057F-437D-8038-8EAE0344862B}" type="slidenum">
              <a:rPr b="0" lang="fi-FI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479E-BD13-4B3C-A35B-4640D9FDECAF}" type="slidenum">
              <a:rPr b="0" lang="fi-FI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8B31-6594-4F7C-BE03-26470A94BA56}" type="slidenum">
              <a:rPr b="0" lang="fi-FI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271F-EBF6-463C-A763-8CABAD25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EE5E-B9A2-44D8-9940-235438CF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EAA2-DE48-4BDC-8DCC-D39D9EAF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7C9B-A9B5-4FFE-AEDF-DE111EEC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961B-5DAB-4B31-82BC-E04F3998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D72E-146E-4B35-80E2-8444D712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3516-8F18-4955-A850-B0853AF9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D98A-CDCA-45C1-9C23-66584E4E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85BF-572D-4914-A66F-1DFB8CC7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DFA5-73E0-489B-9A04-BD2A4046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05DF-FCEE-43AB-A819-79751B1C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D0E4-D8AB-42A6-8A9B-737151A4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70FB-C13F-43CD-8A33-AE3601E5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D475-3792-4339-8BC4-4EA46A12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09DE-94C2-4BAE-AFAF-BDFEEAE1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1589-0D00-47D5-A315-BC94CA9D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5272-06EA-42A4-A138-0D5D4AE4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2A6D-C830-49AB-8BD5-AD0CF273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63EA-C41A-47C2-801C-9921ED06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26F5-8F6A-4853-A0C9-BB4F7772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A215-2A61-4D39-9232-52DCE71C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3D2E-EED5-42A8-B0A9-5C82EFEF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326F-ABA4-4443-A5BE-BBFE9A06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9061-95E6-4501-BB0B-DFF0D5D9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6FAF-E2F5-4A60-B4E4-49BAD6954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BAD5-9D0D-4EB3-BBEF-FDC018FA31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5400" spc="-1" strike="noStrike">
                <a:solidFill>
                  <a:srgbClr val="dbbd71"/>
                </a:solidFill>
                <a:latin typeface="Arial"/>
              </a:rPr>
              <a:t>Tilavuu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kstikehys 1"/>
          <p:cNvSpPr/>
          <p:nvPr/>
        </p:nvSpPr>
        <p:spPr>
          <a:xfrm>
            <a:off x="1637280" y="1571760"/>
            <a:ext cx="330948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Muistathan nämä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1  ml =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 cm</a:t>
            </a:r>
            <a:r>
              <a:rPr b="0" lang="en-GB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kstikehys 2"/>
          <p:cNvSpPr/>
          <p:nvPr/>
        </p:nvSpPr>
        <p:spPr>
          <a:xfrm>
            <a:off x="1825920" y="3571920"/>
            <a:ext cx="392400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1 dm</a:t>
            </a:r>
            <a:r>
              <a:rPr b="0" lang="fi-FI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 = 1000 cm </a:t>
            </a:r>
            <a:r>
              <a:rPr b="0" lang="fi-FI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1 kg = 1000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6"/>
          <p:cNvGrpSpPr/>
          <p:nvPr/>
        </p:nvGrpSpPr>
        <p:grpSpPr>
          <a:xfrm>
            <a:off x="928800" y="1714320"/>
            <a:ext cx="4392360" cy="2808360"/>
            <a:chOff x="928800" y="1714320"/>
            <a:chExt cx="4392360" cy="2808360"/>
          </a:xfrm>
        </p:grpSpPr>
        <p:sp>
          <p:nvSpPr>
            <p:cNvPr id="163" name="Line 4"/>
            <p:cNvSpPr/>
            <p:nvPr/>
          </p:nvSpPr>
          <p:spPr>
            <a:xfrm>
              <a:off x="928800" y="2435040"/>
              <a:ext cx="309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Line 5"/>
            <p:cNvSpPr/>
            <p:nvPr/>
          </p:nvSpPr>
          <p:spPr>
            <a:xfrm>
              <a:off x="928800" y="2435040"/>
              <a:ext cx="0" cy="20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Line 6"/>
            <p:cNvSpPr/>
            <p:nvPr/>
          </p:nvSpPr>
          <p:spPr>
            <a:xfrm>
              <a:off x="928800" y="4522680"/>
              <a:ext cx="309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Line 7"/>
            <p:cNvSpPr/>
            <p:nvPr/>
          </p:nvSpPr>
          <p:spPr>
            <a:xfrm>
              <a:off x="4024080" y="2435040"/>
              <a:ext cx="0" cy="20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Line 8"/>
            <p:cNvSpPr/>
            <p:nvPr/>
          </p:nvSpPr>
          <p:spPr>
            <a:xfrm flipV="1">
              <a:off x="928800" y="1714320"/>
              <a:ext cx="1295280" cy="72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Line 9"/>
            <p:cNvSpPr/>
            <p:nvPr/>
          </p:nvSpPr>
          <p:spPr>
            <a:xfrm flipV="1">
              <a:off x="4024080" y="3801600"/>
              <a:ext cx="1295280" cy="72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Line 10"/>
            <p:cNvSpPr/>
            <p:nvPr/>
          </p:nvSpPr>
          <p:spPr>
            <a:xfrm flipV="1">
              <a:off x="4024080" y="1714320"/>
              <a:ext cx="1295280" cy="72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Line 11"/>
            <p:cNvSpPr/>
            <p:nvPr/>
          </p:nvSpPr>
          <p:spPr>
            <a:xfrm flipV="1">
              <a:off x="928800" y="3801600"/>
              <a:ext cx="1295280" cy="72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Line 12"/>
            <p:cNvSpPr/>
            <p:nvPr/>
          </p:nvSpPr>
          <p:spPr>
            <a:xfrm>
              <a:off x="5321160" y="1714680"/>
              <a:ext cx="0" cy="20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Line 13"/>
            <p:cNvSpPr/>
            <p:nvPr/>
          </p:nvSpPr>
          <p:spPr>
            <a:xfrm>
              <a:off x="2224080" y="1714680"/>
              <a:ext cx="0" cy="20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Line 14"/>
            <p:cNvSpPr/>
            <p:nvPr/>
          </p:nvSpPr>
          <p:spPr>
            <a:xfrm>
              <a:off x="2224080" y="1714680"/>
              <a:ext cx="309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Line 15"/>
            <p:cNvSpPr/>
            <p:nvPr/>
          </p:nvSpPr>
          <p:spPr>
            <a:xfrm>
              <a:off x="2224080" y="3801960"/>
              <a:ext cx="309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5" name="Tekstikehys 15"/>
          <p:cNvSpPr/>
          <p:nvPr/>
        </p:nvSpPr>
        <p:spPr>
          <a:xfrm>
            <a:off x="1156320" y="428760"/>
            <a:ext cx="640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850a"/>
                </a:solidFill>
                <a:latin typeface="Tahoma"/>
              </a:rPr>
              <a:t>Säännöllisen kappaleen tilavuu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Line 16"/>
          <p:cNvSpPr/>
          <p:nvPr/>
        </p:nvSpPr>
        <p:spPr>
          <a:xfrm>
            <a:off x="642960" y="2500200"/>
            <a:ext cx="0" cy="2016360"/>
          </a:xfrm>
          <a:prstGeom prst="line">
            <a:avLst/>
          </a:prstGeom>
          <a:ln w="1260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17"/>
          <p:cNvSpPr/>
          <p:nvPr/>
        </p:nvSpPr>
        <p:spPr>
          <a:xfrm>
            <a:off x="857160" y="4786200"/>
            <a:ext cx="3095640" cy="0"/>
          </a:xfrm>
          <a:prstGeom prst="line">
            <a:avLst/>
          </a:prstGeom>
          <a:ln w="1260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18"/>
          <p:cNvSpPr/>
          <p:nvPr/>
        </p:nvSpPr>
        <p:spPr>
          <a:xfrm flipV="1">
            <a:off x="714240" y="1571400"/>
            <a:ext cx="1224000" cy="647640"/>
          </a:xfrm>
          <a:prstGeom prst="line">
            <a:avLst/>
          </a:prstGeom>
          <a:ln w="1260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kstikehys 19"/>
          <p:cNvSpPr/>
          <p:nvPr/>
        </p:nvSpPr>
        <p:spPr>
          <a:xfrm>
            <a:off x="745560" y="5286240"/>
            <a:ext cx="74498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Mittaa kappaleen pituus, korkeus ja levey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ja kerro ne keskenään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ian numeron paikkamerkki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C173-F1B0-4738-8885-0B5C64DE3D0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2819520" y="2362320"/>
          <a:ext cx="1245960" cy="422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362320"/>
                    <a:ext cx="124596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Rectangle 5"/>
          <p:cNvSpPr/>
          <p:nvPr/>
        </p:nvSpPr>
        <p:spPr>
          <a:xfrm>
            <a:off x="3200400" y="5105520"/>
            <a:ext cx="533520" cy="10666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85840" y="35712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marL="1371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Kappale syrjayttää tilavuutensa verran vettä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1371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13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3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3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3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Object 6"/>
          <p:cNvGraphicFramePr/>
          <p:nvPr/>
        </p:nvGraphicFramePr>
        <p:xfrm>
          <a:off x="6072120" y="2500200"/>
          <a:ext cx="1246320" cy="3992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2120" y="2500200"/>
                    <a:ext cx="1246320" cy="39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7"/>
          <p:cNvSpPr/>
          <p:nvPr/>
        </p:nvSpPr>
        <p:spPr>
          <a:xfrm>
            <a:off x="6429240" y="5072040"/>
            <a:ext cx="533520" cy="109080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Line 8"/>
          <p:cNvSpPr/>
          <p:nvPr/>
        </p:nvSpPr>
        <p:spPr>
          <a:xfrm>
            <a:off x="2362320" y="5105520"/>
            <a:ext cx="68580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Line 10"/>
          <p:cNvSpPr/>
          <p:nvPr/>
        </p:nvSpPr>
        <p:spPr>
          <a:xfrm>
            <a:off x="5562720" y="4648320"/>
            <a:ext cx="76176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357960" y="4786200"/>
            <a:ext cx="642960" cy="13766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6477120" y="5638680"/>
            <a:ext cx="380880" cy="45720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kstikehys 11"/>
          <p:cNvSpPr/>
          <p:nvPr/>
        </p:nvSpPr>
        <p:spPr>
          <a:xfrm>
            <a:off x="2571480" y="1143000"/>
            <a:ext cx="60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Kappaleen tilavuus on siis 10 ml eli 10c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Suorakulmio 12"/>
          <p:cNvSpPr/>
          <p:nvPr/>
        </p:nvSpPr>
        <p:spPr>
          <a:xfrm>
            <a:off x="8393040" y="11253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kstikehys 14"/>
          <p:cNvSpPr/>
          <p:nvPr/>
        </p:nvSpPr>
        <p:spPr>
          <a:xfrm>
            <a:off x="1283040" y="485784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25  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kstikehys 16"/>
          <p:cNvSpPr/>
          <p:nvPr/>
        </p:nvSpPr>
        <p:spPr>
          <a:xfrm>
            <a:off x="5134680" y="40006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35 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8a500"/>
                </a:solidFill>
                <a:latin typeface="Arial"/>
              </a:rPr>
              <a:t>Epäsäännöllisen kappaleen tilavuu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2012760" cy="4319640"/>
          </a:xfrm>
          <a:prstGeom prst="rect">
            <a:avLst/>
          </a:prstGeom>
          <a:ln w="0">
            <a:noFill/>
          </a:ln>
        </p:spPr>
      </p:pic>
      <p:sp>
        <p:nvSpPr>
          <p:cNvPr id="198" name="Line 5"/>
          <p:cNvSpPr/>
          <p:nvPr/>
        </p:nvSpPr>
        <p:spPr>
          <a:xfrm>
            <a:off x="2340000" y="4437000"/>
            <a:ext cx="576360" cy="0"/>
          </a:xfrm>
          <a:prstGeom prst="line">
            <a:avLst/>
          </a:prstGeom>
          <a:ln w="255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4284720" y="2349360"/>
            <a:ext cx="48592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isää vettä mittalasi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pota kappale vete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eden pinta nousee    kappaleen tilavuuden verr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Freeform 9"/>
          <p:cNvSpPr/>
          <p:nvPr/>
        </p:nvSpPr>
        <p:spPr>
          <a:xfrm rot="16864800">
            <a:off x="2254680" y="1413360"/>
            <a:ext cx="730440" cy="392040"/>
          </a:xfrm>
          <a:prstGeom prst="pie">
            <a:avLst/>
          </a:prstGeom>
          <a:solidFill>
            <a:srgbClr val="dadada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2340000" y="3429000"/>
            <a:ext cx="576360" cy="0"/>
          </a:xfrm>
          <a:prstGeom prst="line">
            <a:avLst/>
          </a:prstGeom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Line 11"/>
          <p:cNvSpPr/>
          <p:nvPr/>
        </p:nvSpPr>
        <p:spPr>
          <a:xfrm flipV="1">
            <a:off x="3132000" y="3429000"/>
            <a:ext cx="0" cy="1008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332000" y="429264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Tahoma"/>
              </a:rPr>
              <a:t>50 cm</a:t>
            </a:r>
            <a:r>
              <a:rPr b="1" lang="en-US" sz="1800" spc="-1" strike="noStrike" baseline="30000">
                <a:solidFill>
                  <a:srgbClr val="6699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1360800" y="3284640"/>
            <a:ext cx="9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Tahoma"/>
              </a:rPr>
              <a:t>80 cm</a:t>
            </a:r>
            <a:r>
              <a:rPr b="1" lang="en-US" sz="1800" spc="-1" strike="noStrike" baseline="30000">
                <a:solidFill>
                  <a:srgbClr val="6699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6944 L -0.00139 0.56296 E">
                                      <p:cBhvr>
                                        <p:cTn id="118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850a"/>
                </a:solidFill>
                <a:latin typeface="Arial"/>
              </a:rPr>
              <a:t>Suuren epäsäännöllisen kappaleen tilavuu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1332000" y="278136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1332000" y="4941720"/>
            <a:ext cx="165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Line 6"/>
          <p:cNvSpPr/>
          <p:nvPr/>
        </p:nvSpPr>
        <p:spPr>
          <a:xfrm flipV="1">
            <a:off x="2987640" y="357300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987640" y="357336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2987640" y="328464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Line 9"/>
          <p:cNvSpPr/>
          <p:nvPr/>
        </p:nvSpPr>
        <p:spPr>
          <a:xfrm flipV="1">
            <a:off x="2987640" y="278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3059280" y="393372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Line 11"/>
          <p:cNvSpPr/>
          <p:nvPr/>
        </p:nvSpPr>
        <p:spPr>
          <a:xfrm>
            <a:off x="3492360" y="393372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Line 12"/>
          <p:cNvSpPr/>
          <p:nvPr/>
        </p:nvSpPr>
        <p:spPr>
          <a:xfrm>
            <a:off x="2916360" y="580536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Line 13"/>
          <p:cNvSpPr/>
          <p:nvPr/>
        </p:nvSpPr>
        <p:spPr>
          <a:xfrm flipV="1">
            <a:off x="2916360" y="5589360"/>
            <a:ext cx="14292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14"/>
          <p:cNvSpPr/>
          <p:nvPr/>
        </p:nvSpPr>
        <p:spPr>
          <a:xfrm flipH="1" flipV="1">
            <a:off x="3492000" y="5589360"/>
            <a:ext cx="14292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Line 15"/>
          <p:cNvSpPr/>
          <p:nvPr/>
        </p:nvSpPr>
        <p:spPr>
          <a:xfrm>
            <a:off x="1332000" y="3573360"/>
            <a:ext cx="1655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Freeform 16"/>
          <p:cNvSpPr/>
          <p:nvPr/>
        </p:nvSpPr>
        <p:spPr>
          <a:xfrm rot="16864800">
            <a:off x="1589040" y="2234520"/>
            <a:ext cx="1065240" cy="1004760"/>
          </a:xfrm>
          <a:prstGeom prst="pie">
            <a:avLst/>
          </a:prstGeom>
          <a:solidFill>
            <a:srgbClr val="dadada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Line 17"/>
          <p:cNvSpPr/>
          <p:nvPr/>
        </p:nvSpPr>
        <p:spPr>
          <a:xfrm>
            <a:off x="2987640" y="3573360"/>
            <a:ext cx="289080" cy="28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Line 18"/>
          <p:cNvSpPr/>
          <p:nvPr/>
        </p:nvSpPr>
        <p:spPr>
          <a:xfrm>
            <a:off x="3276720" y="3860640"/>
            <a:ext cx="0" cy="1944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Line 19"/>
          <p:cNvSpPr/>
          <p:nvPr/>
        </p:nvSpPr>
        <p:spPr>
          <a:xfrm>
            <a:off x="3059280" y="5805360"/>
            <a:ext cx="433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Line 20"/>
          <p:cNvSpPr/>
          <p:nvPr/>
        </p:nvSpPr>
        <p:spPr>
          <a:xfrm>
            <a:off x="3276720" y="3860640"/>
            <a:ext cx="0" cy="792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3851280" y="2133720"/>
            <a:ext cx="5292720" cy="46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isää vettä niin, ettei vettä        val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pota kappale vete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ittaa ulosvuotaneen veden määrä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5903 L 0.00035 0.2375 E">
                                      <p:cBhvr>
                                        <p:cTn id="217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8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22222E-006 L 0.00017 -0.16806 E">
                                      <p:cBhvr>
                                        <p:cTn id="235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92360" y="214200"/>
            <a:ext cx="7005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8a500"/>
                </a:solidFill>
                <a:latin typeface="Arial"/>
              </a:rPr>
              <a:t>Nesteen tilavuu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>
            <a:off x="826920" y="3141720"/>
            <a:ext cx="865440" cy="142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1979640" y="4076640"/>
            <a:ext cx="28872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1746360" cy="3747960"/>
          </a:xfrm>
          <a:prstGeom prst="rect">
            <a:avLst/>
          </a:prstGeom>
          <a:ln w="0">
            <a:noFill/>
          </a:ln>
        </p:spPr>
      </p:pic>
      <p:sp>
        <p:nvSpPr>
          <p:cNvPr id="228" name="Vastakkaisista kulmista pyöristetty suorakulmio 20"/>
          <p:cNvSpPr/>
          <p:nvPr/>
        </p:nvSpPr>
        <p:spPr>
          <a:xfrm>
            <a:off x="1357200" y="3857760"/>
            <a:ext cx="571680" cy="1143000"/>
          </a:xfrm>
          <a:prstGeom prst="pie">
            <a:avLst/>
          </a:prstGeom>
          <a:solidFill>
            <a:srgbClr val="6699ff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3405960" y="2289240"/>
            <a:ext cx="459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Lue nesteen tilavuus asteikol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kstikehys 1"/>
          <p:cNvSpPr/>
          <p:nvPr/>
        </p:nvSpPr>
        <p:spPr>
          <a:xfrm>
            <a:off x="-200880" y="2000160"/>
            <a:ext cx="882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Laske saamasi säännöllisen kappaleen tihe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Laske saamasi epäsäännöllisen kappaleen tihey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Määritä saamasi nesteen tihey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Miten selvittäisit oman tiheytesi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8" descr=""/>
          <p:cNvPicPr/>
          <p:nvPr/>
        </p:nvPicPr>
        <p:blipFill>
          <a:blip r:embed="rId1"/>
          <a:stretch/>
        </p:blipFill>
        <p:spPr>
          <a:xfrm>
            <a:off x="6872400" y="4451400"/>
            <a:ext cx="199872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0:20:28Z</dcterms:created>
  <dc:creator/>
  <dc:description/>
  <dc:language>en-US</dc:language>
  <cp:lastModifiedBy>tammiri</cp:lastModifiedBy>
  <dcterms:modified xsi:type="dcterms:W3CDTF">2010-11-10T15:57:27Z</dcterms:modified>
  <cp:revision>61</cp:revision>
  <dc:subject/>
  <dc:title>tiheys</dc:title>
</cp:coreProperties>
</file>